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E554-D033-4C9A-B89C-46D310796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ing resource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an agent is too “fat” to migrate onto a particular no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co-proc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ster scenario: coordinating things all over the country or world.  Involves many different organiz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ative nature of service-oriented paradigm is important: Scripts just declare what they want, and the system finds the services that fulfill these nee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 Rock does not support dynamic application deploym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Web and IrisNet do not focus on computing within SensorNets or application deplo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et does not have service provisioning for dynamic service binding. Tenet scripts assume that the instructions they execute exist.  The current implementation of Tenet assumes a homogeneous platform -- all instructions provided are kn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ite version of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D76A-22E5-4F3E-BBEE-A990E599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8C44-1089-451C-85E1-145924FC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E9C4-2CB5-4AEC-AFC7-4F1CE4FB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A8EE-1AFF-435D-B5A5-534CEA54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E41B-9A5C-47A6-ABEB-938466DC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707C-AF2F-442A-BE89-27F4290C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0142-FDCE-4870-9A9A-EA535DAD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A099-7A91-44F7-ACDF-E9A74BE4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3EB8-17B5-462B-9CBA-61076DEE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D99C-2784-4A30-A688-414BA610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64D8-74E4-437C-9AA4-7CF9E60A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CE34-C69A-473F-A7D3-578F477B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2876-AA5D-4068-80F4-5ADA75E20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wards a Flexible Global Sensing 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35053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en-Liang Fok, Gruia-Catalin Roman, and Chenyang 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5638680"/>
            <a:ext cx="551196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3E6C-322C-44A8-9D65-558ECD5895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: Resourc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service for concurrent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ying resource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ery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5579-6B8D-4E9C-8E1B-F1CFA14643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: Run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 &amp; intra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ipts must react to changes in their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 range of event types, sources, priorities, and usage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Dis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resources prevent hosting every service lo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service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/local persistent/transient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67F8-1789-4155-88E5-E242481733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: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Description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ipt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23760" y="4038480"/>
            <a:ext cx="7748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requi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reDete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 serv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rv; // a handle to the servic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 void main()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    bind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GER | PERSISTENT, THREE_HOP, serv, FireDete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nErr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(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     while (true)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         migrate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RandomNeighbor(), STRO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lea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Fi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ke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nErr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(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     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6080" y="2184480"/>
            <a:ext cx="225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ype = senso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 = temperatur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units = Celsiu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rror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±0.0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CF5E-65FC-4E62-B586-231DDC845A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: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029200" cy="426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Agilla’s VM to support mobile scripts &amp; service inv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a service provisioning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ed on Tmote Sky test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1A9E-503C-4693-950A-EA76C9D502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d SensorNets are evolving into a G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software architecture is required for building flexible GSI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proposed three-tiered service-oriented computing archite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eb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level platform-independent mobile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-level platform-dependen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hallenges re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932A-B819-4E6B-BB07-8DA692C758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Nets are evol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oftware architecture does not easily facil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new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ving global sensing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50800" y="2378160"/>
            <a:ext cx="18288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-scal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ogeneou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-spe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2378160"/>
            <a:ext cx="18288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-scal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erogeneou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29113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8360" y="344484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isting SensorN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53400" y="3444840"/>
            <a:ext cx="18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global sens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 (GS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97160" y="2606760"/>
            <a:ext cx="131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olving i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FC3F-4CDC-4CD3-A757-1F474CFFBE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Sensing 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llection of sensors, microservers, base stations, and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ous and continuously ev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by many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257800" cy="258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F8DE-6923-4463-8B75-1A1DDD6389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Example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upply chain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s attached to products, cargo containers, loading docks, ship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different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disaster scenario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heterogeneous and dynamic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s many organizations and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program GSI to help victims and coordinate respo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B9AB-E222-4C30-B750-BA90E0BC6A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Proposed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new software architecture based on service-oriented computing &amp; mobile 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b services: global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ctive platform-independent mobile scripts: dynamic application deployment in Senso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icient platform-dependent services: flexible service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ve service-oriented programming paradigm enables seamless integ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y application development on evolving &amp; heterogeneou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16C2-269B-48EC-8675-13A71C9007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 Rock Corporation [Woo, Sensys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 SensorNet nodes to the external world as a web service using existing standards (WS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upport mobile scripts (dynamic deployment of apps) for programming inside Senso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eWeb [Santanche et al, IPSN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eb portal for integrating &amp; viewing data collected from a Senso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isNet [Gibbons et al, IEEE Perv. Comp.’0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stributed database for WS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et [Gnawali et al, SenSys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iered Senso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Net has a fixed and uniform instruction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5C03-A7D5-4886-A7DB-A6D191F0C0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rglass 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neidman et al.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rvard TR’0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frastructure for connecting SensorNets with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s on data routing and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VM [Levis et al, NSDI’0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VM with a custom instruction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provide dynamic service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S + DVM [Balani et al, EmSoft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M with dynamically loadable binar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binding between script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ete [Yu et al, SenSys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Application support within Senso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quality of service pro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D32D-AD8A-4FC6-8B43-620778C750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oftware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on engine (VM for mobile scrip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loyment &amp; execution of mobile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or distrib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managemen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6239-7E5A-4BDB-A9DA-F7548DA82B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: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 Heter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cefully handle error conditions like when a script invokes a service that is not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Description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ct, ext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o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erogen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boundary between script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4E7-DCC9-4E77-9378-93FAC7C516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2:14:55Z</dcterms:created>
  <dc:creator>Office 2004 Test Drive User</dc:creator>
  <dc:description/>
  <dc:language>en-US</dc:language>
  <cp:lastModifiedBy>Office 2004 Test Drive User</cp:lastModifiedBy>
  <dcterms:modified xsi:type="dcterms:W3CDTF">2007-04-24T08:28:09Z</dcterms:modified>
  <cp:revision>32</cp:revision>
  <dc:subject/>
  <dc:title>Towards a Flexible Global Sensing Infrastructure</dc:title>
</cp:coreProperties>
</file>